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791320" y="630864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3086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CF47-4C05-4AAE-9118-A986C977AC7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13600" y="6308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0948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7840" y="5334120"/>
            <a:ext cx="241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itle,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9 Pearson Education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86200" y="6286680"/>
            <a:ext cx="11304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hapter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troduction to Educational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and briefly describe the major steps involved in conducting a research study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the differences between quantitative and qualitative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efly define and state the major characteristics of these research approaches: survey, correlational, causal–comparative, experimental, single-subject, narrative, ethnographic, and case study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imitations of the Scientific Metho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ientific method can not answer all questions, especially those of a philosophical or ethical na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of the scientific method can never capture the full richness of the contex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ment error is a limitation of the scientific meth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5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cientific Method in Edu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: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 systematic application of the scientific method to the study of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ucational Research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, systematic application of the scientific method to the study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ducational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cientific Method in Edu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oal of educational research is to describe, explain, predict, and control situations involving human be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challenges faced when conducting educational research.  Many of those relate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cientific Method in Edu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and definition of a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oblem is a question of inte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blem can be tested or the question answered through the collection and analysis of da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researchers use a review of the existing literature to generate hypotheses related to their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cientific Method in Edu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of research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procedures are dictated by the research problem and the identified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 include activities related to collecting data about the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cientific Method in Edu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re analyzed such that the researcher can test the hypothesis or answer the research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often includes statistical techniqu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cientific Method in Edu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may include synthesis of narrativ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may generate new questions and new hypothesis for further explor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cientific Method in Edu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ing and stating 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s are based upon analyses of our data and are stated in terms of the original hypothesis or research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s should indicate whether the hypothesis was rejected or support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cientific Method in Edu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ing and stating 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ose studies that include synthesis of verbal data, conclusions may be more tent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pproaches to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ucational research is often broadly categorized as qualitative or quantita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quantitative and qualitative researchers collect and analyz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quantitative and qualitative researchers derive conclusions and interpret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hapter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troduction to Educational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dentify and differentiate among research purposes, including basic research, applied research, evaluation research, research and development (R&amp;D), and action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gnize the ethical obligations that educational researchers have and describe the codes and procedures they follow to ensure they adhere to the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pproaches to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505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ic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, predicts or controls variables of inte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ld is relatively uniform, stable, and predic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ative and visu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ins insights into phenomenon of inte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 is situated and contextual. There are different perspec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pproaches to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353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state hypothesis, specify research procedures, and control contex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identify large samp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are interested in statistical signific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43040" y="17521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form foreshadowed problems. They don’t control but explain contex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rge amount of data is collected over an extended time in a natural set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re categorized and organized into patter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240" y="1905120"/>
            <a:ext cx="338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re differences in the amount of discipline referrals between girls and boys with Autism Spectrum Disorde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social experiences of middle school girl with an Autism Spectrum Disor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variable best predicts whether first generation college students stay continually enrolled in college until gradu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hallenges do first generation college students from small rural schools experience as they enroll in colleg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students exposed to animated science materials learn more if the animation is accompanied by sound or no sound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students describe their experiences learning from animated science material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urvey Research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6818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vey research determines and reports the ‘current status’ of the subject of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vey research often collects numerical data to test hypotheses or answer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vey research may examine preferences, attitudes, or opin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How do parents feel about national teacher certific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o what degree do students report test anxiety before the SAT ex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l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 research provides a quantitative measure of relationship between or among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asure is expressed as a correlation coeffici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s from -1 to 1; 0 indicates no relation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 studies do not indicate cause-effect relations among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A high correlation between self-concept and achievement does not mean that self-concept causes higher achie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research attempts to determine the cause or reason for existing differe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rouping variable is the potential ca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pendent variable is the eff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re differences in final exam performance between students given a practice exam and those given more time for independent stud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re differences between elderly men and women who recently experienced a stroke in the amount of minutes of exercise during rehabilitation prior to release from hospita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 research provides limited cause-effect data but true cause-effect findings can be determined only through experimental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racteristics of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ndreds of researchers conduct research on teaching and learn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al research is a growing field and educational researchers are becoming better trai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purpose of this course is to assist students in acquiring a general understanding of research processes and to help them develop the perspective of a resear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usal-Comparative Research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imes it is impossible to conduct true experiments such as when grouping variab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not be manipul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year in school, age, g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not be manipul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attended rehabilitation or not; exposed to verbal abuse or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2017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research includes at least one independent variable and the effect is measured on at least one dependent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perimental research extraneous variables are controll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2017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perimental studies researchers select participants, group participants, administer treatments, control the research setting, control the length of treatment exposure, select research measures, and are able to draw cause-effect conclus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imes experimental research is not possible in educational contexts because of difficulties with random selection and random assig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re differences in achievement between students randomly assigned to one of two problem solving strategy condi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dependent variable is problem solving strategy condi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pendent variable is achie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re an effect of corrective feedback on students’ achievement on final physics test scores and interest in physic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dependent variable is corrective feed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pendent variables are final test scores and inte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ingle-Subject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-subject experimental designs are used to study behavior change within a person or a group as they are exposed to an intervention or a treat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ingle-subject research the size of the sample is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he effects of graphing intervention on off-task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he effects of a cessation program on smok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lit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seek rich understand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studies are conducted through sustained in-depth, in-context,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numerous approaches to qualitativ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historical research, symbolic interaction, grounded theory, ethology, phenome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ers study how different people experience their wor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 allows for people to tell the story of their li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ers often focus on one person and collect stories of that person’s lif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8184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 researchers establish a trusting personal relationship with their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arra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story of the phenomenon being investigated and also the method of inquiry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8184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experience of students in a new co-ed dormit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es a winning coach react when faced with a less skilled team and a losing seas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thods of Know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: Fundamental means to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 example: Touch a hot stove and learn that heat hu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example:  Learn quickest driving route through living in a city for an extended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y is the study of cultural patterns and perspectives of participants in their natural setting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ers avoid interpretations early and enter the setting slow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ers have personal relationships with their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ic researchers collect data in waves, re-entering the site several ti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ultant ethnography is a narrative that presents participants’ everyday ev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ing data collection the ethnographer identifies categories and enters themes into these categor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How does the returning student population adjust to technology enhanced instruction in entry level college cours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Research by Metho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is a qualitative approach that examines a bounded system for stud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includes specific design, data collection techniques, and data analysis strateg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What are the challenges faced by a school board with shrinking district population and mandated facility renov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lit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ing a research top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itial topic is often narr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ing the liter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research is examined to garner important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ng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fewer purposely sampled participants than in quantitative stud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interviews, observations, and artifacts serve as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litative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 and interpret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analyze for themes and generate interpret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ing and evaluating the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summarize and integrate the data in narrative and visual for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alit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666612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spend a great amount of time in the field and engage in person-to-person intera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data are analyzed inductive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avoid making assumptions and remain open to alternative explan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assification of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pproach used in a study is determined by the research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the same general problem can be approached from several different types of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methods are selected after the topic or question is determi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r Practice…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the general topic of year-round schooling, suggest how this topic can be addressed differently by each one of the types of resear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otential Answ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8184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vey:  What are parents’ opinions about year-round school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: Is there a relationship between standardized test scores and year-round school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: Are there differences in amount of content mastered between children enrolled in year-round schooling versus those in traditional schooling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otential Answers…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:  Are there differences in self-esteem between those students randomly assigned to districts with year-round schooling versus those assigned to traditional school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subject: What are the effects of year-round schooling on the vocabulary use of students who are reading disabl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thods of Know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ity:  Trusted 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 example: A parent, teacher, newspaper, or other source info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example: An experienced cab driver tells you the quickest route through a 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soning:  Thinking—using logical thought to draw concl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otential Answers…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:  What is the experience of Tom, an eighth grade teacher, as he modifies his curriculum to accommodate year-round school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ic:  What are the experiences of migrant families in a district that has turned to year-round school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search by Purpo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nd applie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esearch is conducted to develop or refine the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research is conducted to apply or test a the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on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research is a form of applied research that involves data collection for decision mak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research may be formative or summat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search by Purpo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and Development (R &amp; 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and development is the process of researching needs and developing products to fit those nee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 research is a systematic inquiry conducted by teachers, principals, or other stakehold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s of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ical considerations are an important part of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must be aware of and attend to ethical consider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main overarching ethical rules guide researc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s should not be harm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obtain participants’ informed cons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s of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societies for behavioral researchers have similar codes for ethical research largely due to the National Research Act of 1974 which Created a code for the protection of human subj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s of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institutions have review groups that assure participant prote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B (Institutional Review Board) or HSRC (Human Subjects Review Committe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must submit their proposal for review and approv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s of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ed consent and protection from ha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 participants must not be harmed in any 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ly, mentally, soci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 participants freely agree to particip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ed consent:  Researchers provide information about the study and any potential dan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s of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ensure freedom from ha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due r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 privacy and confidenti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access of data to those who ‘need to know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s’ involvement should not be repor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thics of Educational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nym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y participants have complete anonymity when their identities are unknown to the resear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y participants are known to researcher but are not disclo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ving names fro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s of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uckley Amendment (The Family Educational Rights and Privacy Act of 197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hat identifies a student is not available without written permiss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describe what data, for what purposes, and to wh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ductive Reason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ctive Reasoning: 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loping generalizations based on observation of a limited number of related events or experi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structor reviews research methods texts and notices sampling content in each text and concludes that all research methods texts have sampl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eacher knows several student athletes who are good students and concludes that all student athletes are good stud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s of Educational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eption poses an ethical dilemma.  If the participants know the purpose of a study, it may change their behavio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gender, race, attitudes, medical st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study must use deception it causes problems for informed consent.  These types of studies must undergo strict ethical revie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s of Qualitativ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ddition to ethics of educational research generally, qualitative research often poses additional ethical challen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ature of the research changes so informed consent is challeng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ose relationship between the researcher and the participant may allow the researcher to know personal and perhaps ill-acts of the participant that may pose ethical challen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al Guidepos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searcher should have an ethical perspective with regard to the research that is very close to her personal ethical pos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ed consent should be obtained through a dialogue between the researcher and the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ical Guidepos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cognizant of the broader social principles that define your ethical stance.  Potential results do not drive ethical stand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the potential for harm to your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d to confidentiality and omit decep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aining Entry to the Research Si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need cooperation to conduct their studies.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nd follow procedures for gaining approval at any given s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superintendent or school bo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es generally require filling out forms that describe the stud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may need permission from principals or teacher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ten permission from parents is often requi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aining Entry to the Research Si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ing entry and obtaining permission often takes considerable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s and other research communities may request something in return for their participation in your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a final report prior to dissemination, professional development, parent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ductive Reason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uctive Reasoning: Arriving at specific conclusions based on general principles, observations, or experien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research textbooks contain a chapter on sampling.  The book you are reading is a research text and therefore must contain a sampling chap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udent athletes are good students. Mary is a student athlete and therefore she must be a good studen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ientific Metho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ctive, deductive, authority, and experience are all limited and subject to error.  Instead, as researchers, we rely on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cientific Meth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ientifi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s of the Scientific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gnition and identification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ion of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 of conclu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 or disconfirm hypothe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pothesi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xplanation for the occurrence of certain behaviors, phenomena, or eve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5T19:32:08Z</dcterms:modified>
  <cp:revision>36</cp:revision>
  <dc:subject/>
  <dc:title>AutoCAD Architecture 2008: Part I: Getting Started</dc:title>
</cp:coreProperties>
</file>